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663B-EBB5-41B5-8E5F-2465857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0870-8535-4DB6-B699-5BFB081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2645-F225-495A-B795-32047E2C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CEE5-0CB4-4BE9-BD47-71E7E89F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C22-8887-4ACD-8428-01DE9C53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D176-706B-45FE-95E0-F8A6AF1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4B5F-09AE-4F3B-BE0B-D1103D2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1F4-8B28-41C8-89DF-5CAB224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A8D1-BDD4-47EF-800B-7B323D9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962B-4DD7-4F1A-B6EC-A5920D9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C82-CE60-4689-A6E8-F4E6A90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DB01-E035-4BF4-8A3A-EDDF1CD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2FEF-8A33-4ABF-A503-D805585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36FB-012A-4635-9D63-2F5CBF0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1EB0-26B5-441D-A1B3-F02FE0A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B3E1-058C-4C2D-8665-23A8A87B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498-76B3-4B66-8AE6-8EEDBF7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0E21-0EDB-4867-97AA-F91A496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2E0B-3D08-4A6E-9650-89E7B4D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F24D-19FC-4F3A-BF34-520DEBAD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869C-8C2F-4FCE-BD1F-C5D0D02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328A-7677-4772-AC4E-6A3A033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AD46-9720-471C-B3D6-DC93CC79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4FB0-7AA6-4138-A591-DDA541D3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27CA-64DF-4743-8C66-64AFAEA15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5981760"/>
            <a:ext cx="9182160" cy="876240"/>
            <a:chOff x="0" y="5981760"/>
            <a:chExt cx="9182160" cy="8762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5981760"/>
              <a:ext cx="71247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rcRect l="57759" t="0" r="0" b="0"/>
            <a:stretch/>
          </p:blipFill>
          <p:spPr>
            <a:xfrm>
              <a:off x="6172200" y="5981760"/>
              <a:ext cx="3009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57759" t="0" r="38502" b="0"/>
            <a:stretch/>
          </p:blipFill>
          <p:spPr>
            <a:xfrm>
              <a:off x="4114800" y="5981760"/>
              <a:ext cx="2362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>
            <a:off x="457200" y="1371600"/>
            <a:ext cx="77724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674-6B58-45EF-97A0-22C95E8B0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5981760"/>
            <a:ext cx="9182160" cy="876240"/>
            <a:chOff x="0" y="5981760"/>
            <a:chExt cx="9182160" cy="8762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0" y="5981760"/>
              <a:ext cx="71247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rcRect l="57759" t="0" r="0" b="0"/>
            <a:stretch/>
          </p:blipFill>
          <p:spPr>
            <a:xfrm>
              <a:off x="6172200" y="5981760"/>
              <a:ext cx="3009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rcRect l="57759" t="0" r="38502" b="0"/>
            <a:stretch/>
          </p:blipFill>
          <p:spPr>
            <a:xfrm>
              <a:off x="4114800" y="5981760"/>
              <a:ext cx="2362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Arial"/>
              </a:rPr>
              <a:t>Roulette betting strategies that bring the House down… (or at least sound cool)</a:t>
            </a:r>
            <a:br>
              <a:rPr sz="3400"/>
            </a:b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y 2, 2005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809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dam Roffman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nnis Simson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ohannes Vavrovsky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ndrew Wittkop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276720"/>
            <a:ext cx="77724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ly, what are we supposed to do to double our mone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59976"/>
              <a:gd name="adj2" fmla="val -9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’Alen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we have to keep the average Ending Balance in min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88634"/>
              <a:gd name="adj2" fmla="val -82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3-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ose different strategies depending on your expectations of your gambling n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% Goal: First 12, D’Alen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0% Goal: First 12, 1-3-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ubling: Even 8, D’Alen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ever, First 12, 1-3-2-6 is the least risky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 for your tim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ou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Bett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ney Managem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we trying to find ou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al: To test various gambling strategies and find out which ones are most likely to reach different targets during the course of one gambling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1: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2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3: Double you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dget: 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e Bet: $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ration of a gambling night: roughly 5 hours – approximately 80 r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reaching respective target (and wisely invest capital gain in dr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you are broke (and go h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the night is over (and take what’s left to invest wisely in dr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we betting 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1: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3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8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7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3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money management techniques are we going to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t (and boring): same bet ever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’Alenbert: increase bet size by $1 after losing a bet and decrease by $1 after winning a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-3-2-6: start betting base bet, triple base bet if you win, double base bet if you win again, bet 6 times base bet if you win yet again.  After that, start betting base bet again.  Start over with base bet whenever you 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e set up the project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102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438280" cy="124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2438280" cy="73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1600200"/>
            <a:ext cx="2210040" cy="3808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8560" y="160020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600200"/>
            <a:ext cx="2209680" cy="3808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41880" y="2254320"/>
            <a:ext cx="25686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trategy reaches the 20% target most ofte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95263"/>
              <a:gd name="adj2" fmla="val -763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 D’Alen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the 50% targ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91412"/>
              <a:gd name="adj2" fmla="val -763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3-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20:03:40Z</dcterms:created>
  <dc:creator>Hayle Chun</dc:creator>
  <dc:description/>
  <dc:language>en-US</dc:language>
  <cp:lastModifiedBy>Johannes Vavrovsky</cp:lastModifiedBy>
  <dcterms:modified xsi:type="dcterms:W3CDTF">2005-05-01T23:40:20Z</dcterms:modified>
  <cp:revision>20</cp:revision>
  <dc:subject/>
  <dc:title>Why NYU Stern should move to the Trimester System  March 7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8125596</vt:r8>
  </property>
  <property fmtid="{D5CDD505-2E9C-101B-9397-08002B2CF9AE}" pid="3" name="_AuthorEmail">
    <vt:lpwstr>jfv211@stern.nyu.edu</vt:lpwstr>
  </property>
  <property fmtid="{D5CDD505-2E9C-101B-9397-08002B2CF9AE}" pid="4" name="_AuthorEmailDisplayName">
    <vt:lpwstr>Johannes Vavrovsky</vt:lpwstr>
  </property>
  <property fmtid="{D5CDD505-2E9C-101B-9397-08002B2CF9AE}" pid="5" name="_EmailSubject">
    <vt:lpwstr>Final Project v02.ppt</vt:lpwstr>
  </property>
</Properties>
</file>